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67BD7-28D0-49AE-AB35-46F550623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63542-7E03-4633-AD69-29773C4F3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A36E0-519E-4C85-B20D-3E7B775EA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4777E-13B7-4266-B97E-59B27A6CB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5C31C-1C56-42EF-9FC9-74A8FF36B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CB506-5031-4AF3-A3EF-750AEF3B4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A583F-1689-462B-AD8F-2BEBB4D14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73CFA-6156-4F0E-8184-DC3D78E67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5362A-FC82-4515-9764-CB3336BCA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09BE0-D92B-4432-B3DC-FB733B162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A8705-D997-44BA-8486-C897BC9C3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60539-2E5E-47CF-A805-BADA6F55B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9C47F-3AB7-47E9-88AF-82CD40CCA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15211-30A1-4CCA-995B-DCABC438A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42AA6-E0D1-4E7D-A05D-D46828647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D8795-D50A-4C62-8345-B0E3173D4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06D7D-1BDC-4B65-AD3A-1D1ECAC09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7F27B-F58A-4EA0-9848-8B1423236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A457C-1FCF-4853-8BE4-EFCBB4AD0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4A86D-B415-459A-B7B0-E7E075C66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B96FE-0662-409F-82FD-5FE309FB7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141C9-CD68-4471-AE04-6316B6E88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97128-AD4A-4837-B08C-5C29F2913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2D0AB-D746-496A-99FA-AD15DA158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0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9774F-9831-4384-9D18-855803612F0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" name=""/>
          <p:cNvSpPr/>
          <p:nvPr/>
        </p:nvSpPr>
        <p:spPr>
          <a:xfrm>
            <a:off x="7962840" y="155520"/>
            <a:ext cx="0" cy="1521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C0BB3-B6A1-4340-8CA1-3E5DFF85B63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1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46160" y="1061640"/>
            <a:ext cx="6951600" cy="15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Data Quality for Long-Term Datasets 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357120" y="2905200"/>
            <a:ext cx="5322960" cy="12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d.Habermann@noaa.g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93760" y="2811600"/>
            <a:ext cx="82296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315200" y="1073160"/>
            <a:ext cx="0" cy="44575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34800" y="905040"/>
            <a:ext cx="410544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00"/>
                </a:solidFill>
                <a:latin typeface="Arial"/>
              </a:rPr>
              <a:t>NESDIS Metadata</a:t>
            </a:r>
            <a:endParaRPr b="0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835200" y="1974960"/>
            <a:ext cx="2582640" cy="2539800"/>
          </a:xfrm>
          <a:prstGeom prst="ellipse">
            <a:avLst/>
          </a:prstGeom>
          <a:solidFill>
            <a:srgbClr val="00ff00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is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756320" y="1974960"/>
            <a:ext cx="3552480" cy="2187360"/>
          </a:xfrm>
          <a:prstGeom prst="ellipse">
            <a:avLst/>
          </a:prstGeom>
          <a:solidFill>
            <a:srgbClr val="cccc00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atell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ran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114880" y="4657680"/>
            <a:ext cx="1849320" cy="981000"/>
          </a:xfrm>
          <a:prstGeom prst="ellipse">
            <a:avLst/>
          </a:prstGeom>
          <a:solidFill>
            <a:srgbClr val="ff0000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BII &amp; 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ten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641600" y="3905280"/>
            <a:ext cx="1703160" cy="1427040"/>
          </a:xfrm>
          <a:prstGeom prst="ellipse">
            <a:avLst/>
          </a:prstGeom>
          <a:solidFill>
            <a:srgbClr val="800080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et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nagement &amp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l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2646360" y="2666880"/>
            <a:ext cx="3521160" cy="2874960"/>
            <a:chOff x="2646360" y="2666880"/>
            <a:chExt cx="3521160" cy="2874960"/>
          </a:xfrm>
        </p:grpSpPr>
        <p:sp>
          <p:nvSpPr>
            <p:cNvPr id="160" name=""/>
            <p:cNvSpPr/>
            <p:nvPr/>
          </p:nvSpPr>
          <p:spPr>
            <a:xfrm>
              <a:off x="2646360" y="2666880"/>
              <a:ext cx="3521160" cy="2874960"/>
            </a:xfrm>
            <a:prstGeom prst="ellipse">
              <a:avLst/>
            </a:prstGeom>
            <a:solidFill>
              <a:srgbClr val="800080">
                <a:alpha val="5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793680" y="4398840"/>
              <a:ext cx="1003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emo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ns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" name=""/>
          <p:cNvSpPr/>
          <p:nvPr/>
        </p:nvSpPr>
        <p:spPr>
          <a:xfrm>
            <a:off x="3078000" y="2933640"/>
            <a:ext cx="2028960" cy="1139760"/>
          </a:xfrm>
          <a:prstGeom prst="ellipse">
            <a:avLst/>
          </a:prstGeom>
          <a:solidFill>
            <a:srgbClr val="00ff00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GD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ass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2473200" y="2560680"/>
            <a:ext cx="4955760" cy="2987640"/>
            <a:chOff x="2473200" y="2560680"/>
            <a:chExt cx="4955760" cy="2987640"/>
          </a:xfrm>
        </p:grpSpPr>
        <p:sp>
          <p:nvSpPr>
            <p:cNvPr id="164" name=""/>
            <p:cNvSpPr/>
            <p:nvPr/>
          </p:nvSpPr>
          <p:spPr>
            <a:xfrm>
              <a:off x="2473200" y="2560680"/>
              <a:ext cx="4683240" cy="2987640"/>
            </a:xfrm>
            <a:prstGeom prst="ellipse">
              <a:avLst/>
            </a:prstGeom>
            <a:solidFill>
              <a:srgbClr val="0066ff">
                <a:alpha val="67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321600" y="4308480"/>
              <a:ext cx="1107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SO 191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500"/>
                            </p:stCondLst>
                            <p:childTnLst>
                              <p:par>
                                <p:cTn id="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3000"/>
                            </p:stCondLst>
                            <p:childTnLst>
                              <p:par>
                                <p:cTn id="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34800" y="905040"/>
            <a:ext cx="410544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00"/>
                </a:solidFill>
                <a:latin typeface="Arial"/>
              </a:rPr>
              <a:t>NESDIS Metadata</a:t>
            </a:r>
            <a:endParaRPr b="0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264360" y="3570120"/>
            <a:ext cx="1623960" cy="1409760"/>
          </a:xfrm>
          <a:prstGeom prst="ellipse">
            <a:avLst/>
          </a:prstGeom>
          <a:solidFill>
            <a:srgbClr val="00ff00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is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902280" y="2355840"/>
            <a:ext cx="1781280" cy="1589040"/>
          </a:xfrm>
          <a:prstGeom prst="ellipse">
            <a:avLst/>
          </a:prstGeom>
          <a:solidFill>
            <a:srgbClr val="cccc00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atell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ran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808200" y="2355840"/>
            <a:ext cx="1849320" cy="981000"/>
          </a:xfrm>
          <a:prstGeom prst="ellipse">
            <a:avLst/>
          </a:prstGeom>
          <a:solidFill>
            <a:srgbClr val="ff0000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BII &amp; 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ten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524560" y="2136600"/>
            <a:ext cx="1703160" cy="1427400"/>
          </a:xfrm>
          <a:prstGeom prst="ellipse">
            <a:avLst/>
          </a:prstGeom>
          <a:solidFill>
            <a:srgbClr val="800080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et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nagement &amp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l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57200" y="3473280"/>
            <a:ext cx="1373040" cy="1320840"/>
          </a:xfrm>
          <a:prstGeom prst="ellipse">
            <a:avLst/>
          </a:prstGeom>
          <a:solidFill>
            <a:srgbClr val="00ff00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GD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ass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457200" y="4780080"/>
            <a:ext cx="8226360" cy="920520"/>
            <a:chOff x="457200" y="4780080"/>
            <a:chExt cx="8226360" cy="920520"/>
          </a:xfrm>
        </p:grpSpPr>
        <p:sp>
          <p:nvSpPr>
            <p:cNvPr id="173" name=""/>
            <p:cNvSpPr/>
            <p:nvPr/>
          </p:nvSpPr>
          <p:spPr>
            <a:xfrm>
              <a:off x="457200" y="4780080"/>
              <a:ext cx="8226360" cy="920520"/>
            </a:xfrm>
            <a:prstGeom prst="ellipse">
              <a:avLst/>
            </a:prstGeom>
            <a:solidFill>
              <a:srgbClr val="0066ff">
                <a:alpha val="5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758400" y="5003640"/>
              <a:ext cx="1623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ISO 191*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2684520" y="2948040"/>
            <a:ext cx="3531600" cy="1689120"/>
            <a:chOff x="2684520" y="2948040"/>
            <a:chExt cx="3531600" cy="1689120"/>
          </a:xfrm>
        </p:grpSpPr>
        <p:sp>
          <p:nvSpPr>
            <p:cNvPr id="176" name=""/>
            <p:cNvSpPr/>
            <p:nvPr/>
          </p:nvSpPr>
          <p:spPr>
            <a:xfrm>
              <a:off x="2684520" y="2948040"/>
              <a:ext cx="3531600" cy="1689120"/>
            </a:xfrm>
            <a:prstGeom prst="ellipse">
              <a:avLst/>
            </a:prstGeom>
            <a:solidFill>
              <a:srgbClr val="800080">
                <a:alpha val="5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371040" y="3441960"/>
              <a:ext cx="21578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Remot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Sensin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8" name=""/>
          <p:cNvSpPr/>
          <p:nvPr/>
        </p:nvSpPr>
        <p:spPr>
          <a:xfrm>
            <a:off x="457200" y="5616720"/>
            <a:ext cx="8226360" cy="439560"/>
          </a:xfrm>
          <a:prstGeom prst="leftRightArrow">
            <a:avLst>
              <a:gd name="adj1" fmla="val 35019"/>
              <a:gd name="adj2" fmla="val 18385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50280" y="6021360"/>
            <a:ext cx="107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193880" y="6022800"/>
            <a:ext cx="156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ynam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00"/>
                            </p:stCondLst>
                            <p:childTnLst>
                              <p:par>
                                <p:cTn id="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000"/>
                            </p:stCondLst>
                            <p:childTnLst>
                              <p:par>
                                <p:cTn id="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45960" y="905040"/>
            <a:ext cx="783288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00"/>
                </a:solidFill>
                <a:latin typeface="Arial"/>
              </a:rPr>
              <a:t>ISO Quality Scope</a:t>
            </a:r>
            <a:endParaRPr b="0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23720" y="865080"/>
            <a:ext cx="754380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63600" y="1836720"/>
            <a:ext cx="5351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DQ_Sco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+ level: MD_Scope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+ extent [0..1] : EX_Ext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+ levelDescription [0..*] : MD_Scope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575320" y="1836720"/>
            <a:ext cx="272268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MD_Scope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+ attribu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+ attribute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+ collection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+ collectionSe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+ data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+ se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+ nonGeographicData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+ dimensionGro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+ 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+ feature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+ property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+ fieldSe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+ soft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+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+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+ t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72960" y="3195720"/>
            <a:ext cx="49975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00"/>
                </a:solidFill>
                <a:latin typeface="Arial"/>
              </a:rPr>
              <a:t>MD_Scope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Arial"/>
              </a:rPr>
              <a:t>+ attributes : Set&lt;GF_AttributeTyp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Arial"/>
              </a:rPr>
              <a:t>+ features : Set&lt;GF_FeatureTyp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Arial"/>
              </a:rPr>
              <a:t>+ featureInstances : Set&lt;GF_FeatureTyp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Arial"/>
              </a:rPr>
              <a:t>+ attributeInstances : Set&lt;GF_AttributeTyp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Arial"/>
              </a:rPr>
              <a:t>+ dataset : CharacterSt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Arial"/>
              </a:rPr>
              <a:t>+ other : CharacterSt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72960" y="5330880"/>
            <a:ext cx="5351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EX_Ext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describes the spatial and temporal extent of the quality sec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7440" y="2443320"/>
            <a:ext cx="2414520" cy="0"/>
          </a:xfrm>
          <a:prstGeom prst="line">
            <a:avLst/>
          </a:prstGeom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87440" y="2706840"/>
            <a:ext cx="26175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87440" y="2994120"/>
            <a:ext cx="4824360" cy="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38040" y="1057320"/>
            <a:ext cx="8445600" cy="3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00"/>
                </a:solidFill>
                <a:latin typeface="Arial"/>
              </a:rPr>
              <a:t>OAIS Principles: Ingest Functions</a:t>
            </a:r>
            <a:endParaRPr b="0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614680" y="4854600"/>
            <a:ext cx="1631880" cy="76212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Qu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ssur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630440" y="2817720"/>
            <a:ext cx="2133360" cy="76212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Rece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ubmi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45120" y="1635120"/>
            <a:ext cx="1108080" cy="2522520"/>
          </a:xfrm>
          <a:custGeom>
            <a:avLst/>
            <a:gdLst>
              <a:gd name="textAreaLeft" fmla="*/ 54000 w 1108080"/>
              <a:gd name="textAreaRight" fmla="*/ 1054080 w 1108080"/>
              <a:gd name="textAreaTop" fmla="*/ 54000 h 2522520"/>
              <a:gd name="textAreaBottom" fmla="*/ 2468520 h 2522520"/>
            </a:gdLst>
            <a:ahLst/>
            <a:rect l="textAreaLeft" t="textAreaTop" r="textAreaRight" b="textAreaBottom"/>
            <a:pathLst>
              <a:path w="21600" h="49163">
                <a:moveTo>
                  <a:pt x="3600" y="0"/>
                </a:moveTo>
                <a:arcTo wR="3600" hR="3600" stAng="16200000" swAng="-5400000"/>
                <a:lnTo>
                  <a:pt x="0" y="45563"/>
                </a:lnTo>
                <a:arcTo wR="3600" hR="3600" stAng="10800000" swAng="-5400000"/>
                <a:lnTo>
                  <a:pt x="18000" y="4916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Gene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830920" y="1832040"/>
            <a:ext cx="1758960" cy="1062000"/>
          </a:xfrm>
          <a:prstGeom prst="roundRect">
            <a:avLst>
              <a:gd name="adj" fmla="val 16667"/>
            </a:avLst>
          </a:prstGeom>
          <a:solidFill>
            <a:srgbClr val="00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Gene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escrip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664160" y="4902120"/>
            <a:ext cx="2373120" cy="762120"/>
          </a:xfrm>
          <a:prstGeom prst="roundRect">
            <a:avLst>
              <a:gd name="adj" fmla="val 16667"/>
            </a:avLst>
          </a:prstGeom>
          <a:solidFill>
            <a:srgbClr val="00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o-ord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pd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7280" y="1469880"/>
            <a:ext cx="363600" cy="403092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592360" y="6232680"/>
            <a:ext cx="2155680" cy="58716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duc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7" idx="1"/>
            <a:endCxn id="192" idx="1"/>
          </p:cNvCxnSpPr>
          <p:nvPr/>
        </p:nvCxnSpPr>
        <p:spPr>
          <a:xfrm rot="10800000">
            <a:off x="1629720" y="3198240"/>
            <a:ext cx="962640" cy="3327840"/>
          </a:xfrm>
          <a:prstGeom prst="bentConnector3">
            <a:avLst>
              <a:gd name="adj1" fmla="val 182641"/>
            </a:avLst>
          </a:prstGeom>
          <a:ln w="28440">
            <a:solidFill>
              <a:srgbClr val="ffffff"/>
            </a:solidFill>
            <a:miter/>
            <a:headEnd len="lg" type="triangle" w="lg"/>
            <a:tailEnd len="lg" type="triangle" w="lg"/>
          </a:ln>
        </p:spPr>
      </p:cxnSp>
      <p:sp>
        <p:nvSpPr>
          <p:cNvPr id="199" name=""/>
          <p:cNvSpPr/>
          <p:nvPr/>
        </p:nvSpPr>
        <p:spPr>
          <a:xfrm>
            <a:off x="1093680" y="3187800"/>
            <a:ext cx="46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S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861840" y="5670720"/>
            <a:ext cx="2193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Receipt confirm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Resubmit requ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1" name=""/>
          <p:cNvCxnSpPr>
            <a:stCxn id="191" idx="1"/>
          </p:cNvCxnSpPr>
          <p:nvPr/>
        </p:nvCxnSpPr>
        <p:spPr>
          <a:xfrm rot="10800000">
            <a:off x="2056680" y="3531600"/>
            <a:ext cx="558000" cy="1703880"/>
          </a:xfrm>
          <a:prstGeom prst="bentConnector2">
            <a:avLst/>
          </a:prstGeom>
          <a:ln w="28440">
            <a:solidFill>
              <a:srgbClr val="ffffff"/>
            </a:solidFill>
            <a:miter/>
            <a:headEnd len="lg" type="triangle" w="lg"/>
            <a:tailEnd len="lg" type="triangle" w="lg"/>
          </a:ln>
        </p:spPr>
      </p:cxnSp>
      <p:sp>
        <p:nvSpPr>
          <p:cNvPr id="202" name=""/>
          <p:cNvSpPr/>
          <p:nvPr/>
        </p:nvSpPr>
        <p:spPr>
          <a:xfrm>
            <a:off x="2104920" y="4951440"/>
            <a:ext cx="46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S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001240" y="3635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QA Resul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63480" y="2259000"/>
            <a:ext cx="359568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537200" y="1973160"/>
            <a:ext cx="263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Data Formatting and Doc St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65280" y="1935000"/>
            <a:ext cx="3595680" cy="0"/>
          </a:xfrm>
          <a:prstGeom prst="line">
            <a:avLst/>
          </a:prstGeom>
          <a:ln w="28440">
            <a:solidFill>
              <a:srgbClr val="ffffff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44480" y="1641600"/>
            <a:ext cx="1573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SIP, AIP for Aud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975040" y="16416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udit Re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512040" y="3203640"/>
            <a:ext cx="2381040" cy="79992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452920" y="6234120"/>
            <a:ext cx="3038760" cy="58572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chival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746520" y="3195720"/>
            <a:ext cx="50148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746160" y="2928960"/>
            <a:ext cx="46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S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3" name=""/>
          <p:cNvCxnSpPr>
            <a:stCxn id="209" idx="0"/>
            <a:endCxn id="193" idx="0"/>
          </p:cNvCxnSpPr>
          <p:nvPr/>
        </p:nvCxnSpPr>
        <p:spPr>
          <a:xfrm flipV="1" rot="16200000">
            <a:off x="5465880" y="966960"/>
            <a:ext cx="1569240" cy="2904120"/>
          </a:xfrm>
          <a:prstGeom prst="bentConnector3">
            <a:avLst>
              <a:gd name="adj1" fmla="val 114570"/>
            </a:avLst>
          </a:prstGeom>
          <a:ln w="28440">
            <a:solidFill>
              <a:srgbClr val="ffffff"/>
            </a:solidFill>
            <a:miter/>
            <a:headEnd len="lg" type="triangle" w="lg"/>
            <a:tailEnd len="lg" type="triangle" w="lg"/>
          </a:ln>
        </p:spPr>
      </p:cxnSp>
      <p:sp>
        <p:nvSpPr>
          <p:cNvPr id="214" name=""/>
          <p:cNvSpPr/>
          <p:nvPr/>
        </p:nvSpPr>
        <p:spPr>
          <a:xfrm>
            <a:off x="5337000" y="2575080"/>
            <a:ext cx="50184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341680" y="2308320"/>
            <a:ext cx="468720" cy="307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116760" y="2890800"/>
            <a:ext cx="0" cy="1987560"/>
          </a:xfrm>
          <a:prstGeom prst="line">
            <a:avLst/>
          </a:prstGeom>
          <a:ln w="2844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542640" y="4097160"/>
            <a:ext cx="1064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Descrip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Inf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115600" y="4289400"/>
            <a:ext cx="1064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Descrip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Inf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905360" y="4165560"/>
            <a:ext cx="3240" cy="736560"/>
          </a:xfrm>
          <a:prstGeom prst="line">
            <a:avLst/>
          </a:prstGeom>
          <a:ln w="2844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487760" y="4527720"/>
            <a:ext cx="46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6599160" y="4002120"/>
            <a:ext cx="0" cy="920880"/>
          </a:xfrm>
          <a:prstGeom prst="line">
            <a:avLst/>
          </a:prstGeom>
          <a:ln w="2844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2" name=""/>
          <p:cNvCxnSpPr>
            <a:stCxn id="209" idx="2"/>
            <a:endCxn id="195" idx="3"/>
          </p:cNvCxnSpPr>
          <p:nvPr/>
        </p:nvCxnSpPr>
        <p:spPr>
          <a:xfrm rot="5400000">
            <a:off x="6729840" y="4310640"/>
            <a:ext cx="1280520" cy="665640"/>
          </a:xfrm>
          <a:prstGeom prst="bentConnector2">
            <a:avLst/>
          </a:prstGeom>
          <a:ln w="28440">
            <a:solidFill>
              <a:srgbClr val="ffffff"/>
            </a:solidFill>
            <a:miter/>
            <a:headEnd len="lg" type="triangle" w="lg"/>
            <a:tailEnd len="lg" type="triangle" w="lg"/>
          </a:ln>
        </p:spPr>
      </p:cxnSp>
      <p:sp>
        <p:nvSpPr>
          <p:cNvPr id="223" name=""/>
          <p:cNvSpPr/>
          <p:nvPr/>
        </p:nvSpPr>
        <p:spPr>
          <a:xfrm>
            <a:off x="7649640" y="4649760"/>
            <a:ext cx="944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Upd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Reque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662600" y="2558880"/>
            <a:ext cx="84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Re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Reque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92800" y="144144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Re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843520" y="5657760"/>
            <a:ext cx="7920" cy="558720"/>
          </a:xfrm>
          <a:prstGeom prst="line">
            <a:avLst/>
          </a:prstGeom>
          <a:ln w="28440">
            <a:solidFill>
              <a:srgbClr val="ffffff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706920" y="5896080"/>
            <a:ext cx="216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Storage Request, A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850000" y="5654520"/>
            <a:ext cx="188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Storage Confirm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39720" y="3022560"/>
            <a:ext cx="97632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10560" y="2557440"/>
            <a:ext cx="973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(Updat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S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2600" y="4862520"/>
            <a:ext cx="1631880" cy="762120"/>
          </a:xfrm>
          <a:prstGeom prst="roundRect">
            <a:avLst>
              <a:gd name="adj" fmla="val 16667"/>
            </a:avLst>
          </a:prstGeom>
          <a:solidFill>
            <a:srgbClr val="00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Qu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ssur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638360" y="2825640"/>
            <a:ext cx="2133720" cy="762120"/>
          </a:xfrm>
          <a:prstGeom prst="roundRect">
            <a:avLst>
              <a:gd name="adj" fmla="val 16667"/>
            </a:avLst>
          </a:prstGeom>
          <a:solidFill>
            <a:srgbClr val="00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Rece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ubmi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3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6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45960" y="905040"/>
            <a:ext cx="783288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00"/>
                </a:solidFill>
                <a:latin typeface="Arial"/>
              </a:rPr>
              <a:t>Granule Metadata - Present</a:t>
            </a:r>
            <a:endParaRPr b="0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70120" y="1501920"/>
            <a:ext cx="7145280" cy="494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1015920" y="1612800"/>
            <a:ext cx="6939000" cy="474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45960" y="905040"/>
            <a:ext cx="783288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00"/>
                </a:solidFill>
                <a:latin typeface="Arial"/>
              </a:rPr>
              <a:t>Rich Inventory</a:t>
            </a:r>
            <a:endParaRPr b="0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870120" y="1501920"/>
            <a:ext cx="7145280" cy="4943160"/>
            <a:chOff x="870120" y="1501920"/>
            <a:chExt cx="7145280" cy="4943160"/>
          </a:xfrm>
        </p:grpSpPr>
        <p:sp>
          <p:nvSpPr>
            <p:cNvPr id="238" name=""/>
            <p:cNvSpPr/>
            <p:nvPr/>
          </p:nvSpPr>
          <p:spPr>
            <a:xfrm>
              <a:off x="870120" y="1501920"/>
              <a:ext cx="7145280" cy="4943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9" name="" descr=""/>
            <p:cNvPicPr/>
            <p:nvPr/>
          </p:nvPicPr>
          <p:blipFill>
            <a:blip r:embed="rId1"/>
            <a:stretch/>
          </p:blipFill>
          <p:spPr>
            <a:xfrm>
              <a:off x="1023840" y="1614600"/>
              <a:ext cx="6819840" cy="47354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60000" y="1023840"/>
            <a:ext cx="7472520" cy="3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00"/>
                </a:solidFill>
                <a:latin typeface="Arial"/>
              </a:rPr>
              <a:t>Aerosol Algorithm Change</a:t>
            </a:r>
            <a:endParaRPr b="0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12680" y="1579680"/>
            <a:ext cx="708516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26520" y="1049400"/>
            <a:ext cx="4102200" cy="3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00"/>
                </a:solidFill>
                <a:latin typeface="Arial"/>
              </a:rPr>
              <a:t>Metadata</a:t>
            </a:r>
            <a:endParaRPr b="0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68280" y="1486080"/>
            <a:ext cx="8339040" cy="477936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Hi Ted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We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did some digging</a:t>
            </a: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 and this is the result.   This conclusion is the most pertinent info we could find from logs or email archives.  Here it i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i checked my 2002 email archives</a:t>
            </a: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, and here is what i found out: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it appears that the current 3rd generation aerosol algorithm was implemented into operations around Oct-Nov 2002 time frame. cannot say more precisely, as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all email correspondence i am looking at, talks about this indirectly</a:t>
            </a: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. (maybe it's what Steve refers to as the Phase II aerosol-SST algorithm.) At the same time, Steve had implemented quite a few other changes fixing data bugs and formats: view angle problem in AEROBS, increased digitization in all channel's reflectances and AODs, etc.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The jump in AOD1 is deemed due to introducing 3rd generation algorithm, which replaced the 2nd generation. The new numbers (~0.08) look more realistic than the previous ones (~0.05 or so).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The changes seen in the data is close to the expected effect of this change</a:t>
            </a: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. the 3rd gen alg takes into account the exact spectral response of N16 AVHRR, whereas the 2nd gen was using a generic set of LUTs for all AVHRRs ("one size fits all").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opefully this settles the issue..</a:t>
            </a: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5T10:53:13Z</dcterms:created>
  <dc:creator>Ted Habermann</dc:creator>
  <dc:description/>
  <dc:language>en-US</dc:language>
  <cp:lastModifiedBy>Ted Habermann</cp:lastModifiedBy>
  <dcterms:modified xsi:type="dcterms:W3CDTF">2009-01-05T20:58:11Z</dcterms:modified>
  <cp:revision>240</cp:revision>
  <dc:subject/>
  <dc:title>Data Quality and ISO Metadat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ticulatePath">
    <vt:lpwstr>ISODataQualityA</vt:lpwstr>
  </property>
</Properties>
</file>